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B2B-FB78-4D42-B840-A41E65D5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97F-B1B6-464D-A653-902BC1B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209-DB4B-483A-B256-8793FCC2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A9-EFE9-4DF7-A5B9-282DCE29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C3E-B421-4E08-A17F-921C5E2C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559-1B6F-422F-8F9B-03ACB26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F88-187D-495E-BDE8-277F1F1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C4B-78CE-4C1F-B747-F61B1FD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E56-37DC-4BB6-95C7-0C7C0D6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548-D7D1-4BAB-996A-A9D696C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FE9-E1A2-4680-81FC-565C2E7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4EB-AA03-4D24-BB0E-450D23F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F29639C-46D1-4B8F-83F0-373B3D9A27D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60" y="4473720"/>
            <a:ext cx="8193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ace 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6440" y="3848040"/>
            <a:ext cx="81900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d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6440" y="516096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76440" y="2652840"/>
            <a:ext cx="81900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ace S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4440" y="3848040"/>
            <a:ext cx="81900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sio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1800" y="5160960"/>
            <a:ext cx="8193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8080" y="263520"/>
            <a:ext cx="968400" cy="22860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8080" y="623880"/>
            <a:ext cx="968400" cy="2286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8080" y="984240"/>
            <a:ext cx="9684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eapon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080" y="1344600"/>
            <a:ext cx="968400" cy="2286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080" y="1704960"/>
            <a:ext cx="968400" cy="2286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ef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080" y="2063880"/>
            <a:ext cx="968400" cy="228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8080" y="2424240"/>
            <a:ext cx="968400" cy="228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890640"/>
            <a:ext cx="8193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6800" y="2486160"/>
            <a:ext cx="8193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o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6440" y="6404040"/>
            <a:ext cx="819000" cy="5443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516096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3360" y="6404040"/>
            <a:ext cx="819000" cy="5443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6800" y="1665360"/>
            <a:ext cx="8193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b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5160" y="890640"/>
            <a:ext cx="81900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^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ti-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5160960"/>
            <a:ext cx="819000" cy="5446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ug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lo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3492360"/>
            <a:ext cx="819000" cy="5432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yst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1440" y="6404040"/>
            <a:ext cx="819000" cy="5443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1440" y="429588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6404040"/>
            <a:ext cx="819000" cy="54432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 Rob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8440" y="4295880"/>
            <a:ext cx="81900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apid Pu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45160" y="1654200"/>
            <a:ext cx="81900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tra-S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48440" y="278460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 M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30880" y="278460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lar Cryst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53160" y="7753320"/>
            <a:ext cx="819000" cy="5446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3160" y="1654200"/>
            <a:ext cx="81900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11840" y="89064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6440" y="429588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am 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64440" y="16621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6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plom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6960" y="278460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75360" y="640404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f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89880" y="89064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yper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4520" y="16621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80440" y="429588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am La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80440" y="357660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ser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41160" y="89064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yper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01160" y="640404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61520" y="357660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apidf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01160" y="7753320"/>
            <a:ext cx="817560" cy="542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6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i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304200" y="16621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37760" y="166212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41160" y="184788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yper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2440" y="775332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88440" y="192240"/>
            <a:ext cx="817560" cy="542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61520" y="2784600"/>
            <a:ext cx="817560" cy="542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am La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17160" y="328788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3880" y="4656240"/>
            <a:ext cx="817560" cy="542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at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41160" y="328788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5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09160" y="6405480"/>
            <a:ext cx="817560" cy="5428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ti-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hie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585520" y="4473720"/>
            <a:ext cx="817560" cy="5428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or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3880" y="5681520"/>
            <a:ext cx="817560" cy="543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585520" y="5410080"/>
            <a:ext cx="817560" cy="54288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8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b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585520" y="775332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0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th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hnology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3880" y="6675480"/>
            <a:ext cx="817560" cy="542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1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ystic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42" idx="3"/>
            <a:endCxn id="45" idx="1"/>
          </p:cNvCxnSpPr>
          <p:nvPr/>
        </p:nvCxnSpPr>
        <p:spPr>
          <a:xfrm>
            <a:off x="2395440" y="411948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41" idx="3"/>
            <a:endCxn id="42" idx="1"/>
          </p:cNvCxnSpPr>
          <p:nvPr/>
        </p:nvCxnSpPr>
        <p:spPr>
          <a:xfrm flipV="1">
            <a:off x="1098720" y="4119480"/>
            <a:ext cx="47808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41" idx="3"/>
            <a:endCxn id="43" idx="1"/>
          </p:cNvCxnSpPr>
          <p:nvPr/>
        </p:nvCxnSpPr>
        <p:spPr>
          <a:xfrm>
            <a:off x="1098720" y="4745160"/>
            <a:ext cx="478080" cy="68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41" idx="3"/>
            <a:endCxn id="44" idx="1"/>
          </p:cNvCxnSpPr>
          <p:nvPr/>
        </p:nvCxnSpPr>
        <p:spPr>
          <a:xfrm flipV="1">
            <a:off x="1098720" y="2924280"/>
            <a:ext cx="478080" cy="182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41" idx="3"/>
            <a:endCxn id="56" idx="1"/>
          </p:cNvCxnSpPr>
          <p:nvPr/>
        </p:nvCxnSpPr>
        <p:spPr>
          <a:xfrm>
            <a:off x="1098720" y="4745160"/>
            <a:ext cx="478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43" idx="3"/>
            <a:endCxn id="46" idx="1"/>
          </p:cNvCxnSpPr>
          <p:nvPr/>
        </p:nvCxnSpPr>
        <p:spPr>
          <a:xfrm>
            <a:off x="2395440" y="5432400"/>
            <a:ext cx="306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6" idx="3"/>
            <a:endCxn id="58" idx="1"/>
          </p:cNvCxnSpPr>
          <p:nvPr/>
        </p:nvCxnSpPr>
        <p:spPr>
          <a:xfrm>
            <a:off x="2395440" y="6676200"/>
            <a:ext cx="278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43" idx="3"/>
            <a:endCxn id="45" idx="2"/>
          </p:cNvCxnSpPr>
          <p:nvPr/>
        </p:nvCxnSpPr>
        <p:spPr>
          <a:xfrm flipV="1">
            <a:off x="2395440" y="4390920"/>
            <a:ext cx="599040" cy="10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44" idx="3"/>
            <a:endCxn id="54" idx="1"/>
          </p:cNvCxnSpPr>
          <p:nvPr/>
        </p:nvCxnSpPr>
        <p:spPr>
          <a:xfrm flipV="1">
            <a:off x="2395440" y="1162080"/>
            <a:ext cx="1341720" cy="17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45" idx="0"/>
            <a:endCxn id="54" idx="1"/>
          </p:cNvCxnSpPr>
          <p:nvPr/>
        </p:nvCxnSpPr>
        <p:spPr>
          <a:xfrm flipV="1">
            <a:off x="2994120" y="1162080"/>
            <a:ext cx="743040" cy="268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45" idx="0"/>
            <a:endCxn id="55" idx="1"/>
          </p:cNvCxnSpPr>
          <p:nvPr/>
        </p:nvCxnSpPr>
        <p:spPr>
          <a:xfrm flipV="1">
            <a:off x="2994120" y="2757600"/>
            <a:ext cx="743040" cy="109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46" idx="3"/>
            <a:endCxn id="57" idx="1"/>
          </p:cNvCxnSpPr>
          <p:nvPr/>
        </p:nvCxnSpPr>
        <p:spPr>
          <a:xfrm>
            <a:off x="3521160" y="5432400"/>
            <a:ext cx="260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55" idx="0"/>
            <a:endCxn id="59" idx="2"/>
          </p:cNvCxnSpPr>
          <p:nvPr/>
        </p:nvCxnSpPr>
        <p:spPr>
          <a:xfrm flipV="1">
            <a:off x="4146480" y="2208240"/>
            <a:ext cx="3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57" idx="3"/>
            <a:endCxn id="61" idx="1"/>
          </p:cNvCxnSpPr>
          <p:nvPr/>
        </p:nvCxnSpPr>
        <p:spPr>
          <a:xfrm>
            <a:off x="4600440" y="5432400"/>
            <a:ext cx="115308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54" idx="3"/>
            <a:endCxn id="60" idx="1"/>
          </p:cNvCxnSpPr>
          <p:nvPr/>
        </p:nvCxnSpPr>
        <p:spPr>
          <a:xfrm>
            <a:off x="4556160" y="116208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7" idx="0"/>
            <a:endCxn id="64" idx="2"/>
          </p:cNvCxnSpPr>
          <p:nvPr/>
        </p:nvCxnSpPr>
        <p:spPr>
          <a:xfrm flipV="1">
            <a:off x="4191120" y="4838760"/>
            <a:ext cx="360" cy="32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58" idx="3"/>
            <a:endCxn id="63" idx="1"/>
          </p:cNvCxnSpPr>
          <p:nvPr/>
        </p:nvCxnSpPr>
        <p:spPr>
          <a:xfrm>
            <a:off x="3492360" y="6676200"/>
            <a:ext cx="289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63" idx="3"/>
            <a:endCxn id="65" idx="1"/>
          </p:cNvCxnSpPr>
          <p:nvPr/>
        </p:nvCxnSpPr>
        <p:spPr>
          <a:xfrm>
            <a:off x="4600440" y="6676200"/>
            <a:ext cx="115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61" idx="2"/>
            <a:endCxn id="65" idx="0"/>
          </p:cNvCxnSpPr>
          <p:nvPr/>
        </p:nvCxnSpPr>
        <p:spPr>
          <a:xfrm>
            <a:off x="6162840" y="5705640"/>
            <a:ext cx="360" cy="69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64" idx="3"/>
            <a:endCxn id="66" idx="1"/>
          </p:cNvCxnSpPr>
          <p:nvPr/>
        </p:nvCxnSpPr>
        <p:spPr>
          <a:xfrm>
            <a:off x="4600440" y="4567320"/>
            <a:ext cx="648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62" idx="3"/>
            <a:endCxn id="66" idx="1"/>
          </p:cNvCxnSpPr>
          <p:nvPr/>
        </p:nvCxnSpPr>
        <p:spPr>
          <a:xfrm>
            <a:off x="5154480" y="3764160"/>
            <a:ext cx="94320" cy="80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59" idx="3"/>
            <a:endCxn id="67" idx="1"/>
          </p:cNvCxnSpPr>
          <p:nvPr/>
        </p:nvCxnSpPr>
        <p:spPr>
          <a:xfrm flipV="1">
            <a:off x="4556160" y="1925640"/>
            <a:ext cx="18936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60" idx="2"/>
            <a:endCxn id="67" idx="0"/>
          </p:cNvCxnSpPr>
          <p:nvPr/>
        </p:nvCxnSpPr>
        <p:spPr>
          <a:xfrm>
            <a:off x="5154840" y="1433520"/>
            <a:ext cx="36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66" idx="0"/>
            <a:endCxn id="68" idx="2"/>
          </p:cNvCxnSpPr>
          <p:nvPr/>
        </p:nvCxnSpPr>
        <p:spPr>
          <a:xfrm flipH="1" flipV="1">
            <a:off x="5657400" y="3327480"/>
            <a:ext cx="1080" cy="9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67" idx="3"/>
            <a:endCxn id="71" idx="1"/>
          </p:cNvCxnSpPr>
          <p:nvPr/>
        </p:nvCxnSpPr>
        <p:spPr>
          <a:xfrm>
            <a:off x="5564160" y="192564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68" idx="3"/>
            <a:endCxn id="69" idx="1"/>
          </p:cNvCxnSpPr>
          <p:nvPr/>
        </p:nvCxnSpPr>
        <p:spPr>
          <a:xfrm>
            <a:off x="6066000" y="3056040"/>
            <a:ext cx="165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63" idx="3"/>
            <a:endCxn id="70" idx="1"/>
          </p:cNvCxnSpPr>
          <p:nvPr/>
        </p:nvCxnSpPr>
        <p:spPr>
          <a:xfrm>
            <a:off x="4600440" y="6676200"/>
            <a:ext cx="1153080" cy="13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60" idx="3"/>
            <a:endCxn id="72" idx="1"/>
          </p:cNvCxnSpPr>
          <p:nvPr/>
        </p:nvCxnSpPr>
        <p:spPr>
          <a:xfrm>
            <a:off x="5564160" y="1162080"/>
            <a:ext cx="11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69" idx="0"/>
            <a:endCxn id="72" idx="2"/>
          </p:cNvCxnSpPr>
          <p:nvPr/>
        </p:nvCxnSpPr>
        <p:spPr>
          <a:xfrm flipV="1">
            <a:off x="6639840" y="1433520"/>
            <a:ext cx="481320" cy="13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66" idx="3"/>
            <a:endCxn id="73" idx="1"/>
          </p:cNvCxnSpPr>
          <p:nvPr/>
        </p:nvCxnSpPr>
        <p:spPr>
          <a:xfrm>
            <a:off x="6067440" y="4567320"/>
            <a:ext cx="189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71" idx="3"/>
            <a:endCxn id="74" idx="1"/>
          </p:cNvCxnSpPr>
          <p:nvPr/>
        </p:nvCxnSpPr>
        <p:spPr>
          <a:xfrm>
            <a:off x="6572160" y="1925640"/>
            <a:ext cx="692640" cy="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69" idx="3"/>
            <a:endCxn id="75" idx="1"/>
          </p:cNvCxnSpPr>
          <p:nvPr/>
        </p:nvCxnSpPr>
        <p:spPr>
          <a:xfrm>
            <a:off x="7048440" y="3056040"/>
            <a:ext cx="3988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73" idx="0"/>
            <a:endCxn id="75" idx="1"/>
          </p:cNvCxnSpPr>
          <p:nvPr/>
        </p:nvCxnSpPr>
        <p:spPr>
          <a:xfrm flipV="1">
            <a:off x="6665400" y="3056040"/>
            <a:ext cx="781920" cy="12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73" idx="3"/>
            <a:endCxn id="76" idx="0"/>
          </p:cNvCxnSpPr>
          <p:nvPr/>
        </p:nvCxnSpPr>
        <p:spPr>
          <a:xfrm>
            <a:off x="7074000" y="4567320"/>
            <a:ext cx="310680" cy="18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65" idx="3"/>
            <a:endCxn id="76" idx="1"/>
          </p:cNvCxnSpPr>
          <p:nvPr/>
        </p:nvCxnSpPr>
        <p:spPr>
          <a:xfrm flipV="1">
            <a:off x="6572160" y="6675480"/>
            <a:ext cx="40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72" idx="3"/>
            <a:endCxn id="77" idx="1"/>
          </p:cNvCxnSpPr>
          <p:nvPr/>
        </p:nvCxnSpPr>
        <p:spPr>
          <a:xfrm>
            <a:off x="7529400" y="1162080"/>
            <a:ext cx="960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74" idx="3"/>
            <a:endCxn id="78" idx="1"/>
          </p:cNvCxnSpPr>
          <p:nvPr/>
        </p:nvCxnSpPr>
        <p:spPr>
          <a:xfrm>
            <a:off x="8082000" y="1933560"/>
            <a:ext cx="1828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73" idx="3"/>
            <a:endCxn id="79" idx="1"/>
          </p:cNvCxnSpPr>
          <p:nvPr/>
        </p:nvCxnSpPr>
        <p:spPr>
          <a:xfrm>
            <a:off x="7074000" y="4567320"/>
            <a:ext cx="406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79" idx="0"/>
            <a:endCxn id="80" idx="2"/>
          </p:cNvCxnSpPr>
          <p:nvPr/>
        </p:nvCxnSpPr>
        <p:spPr>
          <a:xfrm flipV="1">
            <a:off x="7889400" y="4119480"/>
            <a:ext cx="36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77" idx="3"/>
            <a:endCxn id="81" idx="1"/>
          </p:cNvCxnSpPr>
          <p:nvPr/>
        </p:nvCxnSpPr>
        <p:spPr>
          <a:xfrm>
            <a:off x="9307440" y="1162080"/>
            <a:ext cx="2134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1" idx="2"/>
            <a:endCxn id="87" idx="0"/>
          </p:cNvCxnSpPr>
          <p:nvPr/>
        </p:nvCxnSpPr>
        <p:spPr>
          <a:xfrm>
            <a:off x="11850120" y="1433520"/>
            <a:ext cx="360" cy="41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80" idx="3"/>
            <a:endCxn id="83" idx="1"/>
          </p:cNvCxnSpPr>
          <p:nvPr/>
        </p:nvCxnSpPr>
        <p:spPr>
          <a:xfrm>
            <a:off x="8298000" y="3848040"/>
            <a:ext cx="2638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83" idx="0"/>
            <a:endCxn id="90" idx="2"/>
          </p:cNvCxnSpPr>
          <p:nvPr/>
        </p:nvCxnSpPr>
        <p:spPr>
          <a:xfrm flipV="1">
            <a:off x="8970480" y="3327480"/>
            <a:ext cx="360" cy="24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76" idx="3"/>
            <a:endCxn id="82" idx="1"/>
          </p:cNvCxnSpPr>
          <p:nvPr/>
        </p:nvCxnSpPr>
        <p:spPr>
          <a:xfrm>
            <a:off x="7792920" y="6675480"/>
            <a:ext cx="408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70" idx="3"/>
            <a:endCxn id="84" idx="1"/>
          </p:cNvCxnSpPr>
          <p:nvPr/>
        </p:nvCxnSpPr>
        <p:spPr>
          <a:xfrm flipV="1">
            <a:off x="6572160" y="8024760"/>
            <a:ext cx="162936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82" idx="2"/>
            <a:endCxn id="84" idx="0"/>
          </p:cNvCxnSpPr>
          <p:nvPr/>
        </p:nvCxnSpPr>
        <p:spPr>
          <a:xfrm>
            <a:off x="8610120" y="6946920"/>
            <a:ext cx="360" cy="80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78" idx="3"/>
            <a:endCxn id="85" idx="1"/>
          </p:cNvCxnSpPr>
          <p:nvPr/>
        </p:nvCxnSpPr>
        <p:spPr>
          <a:xfrm>
            <a:off x="9082080" y="1933560"/>
            <a:ext cx="2224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84" idx="3"/>
            <a:endCxn id="85" idx="2"/>
          </p:cNvCxnSpPr>
          <p:nvPr/>
        </p:nvCxnSpPr>
        <p:spPr>
          <a:xfrm flipV="1">
            <a:off x="9018720" y="2205000"/>
            <a:ext cx="694800" cy="58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85" idx="3"/>
            <a:endCxn id="86" idx="1"/>
          </p:cNvCxnSpPr>
          <p:nvPr/>
        </p:nvCxnSpPr>
        <p:spPr>
          <a:xfrm>
            <a:off x="10121760" y="1933560"/>
            <a:ext cx="216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84" idx="3"/>
            <a:endCxn id="88" idx="1"/>
          </p:cNvCxnSpPr>
          <p:nvPr/>
        </p:nvCxnSpPr>
        <p:spPr>
          <a:xfrm>
            <a:off x="9018720" y="8024760"/>
            <a:ext cx="694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72" idx="3"/>
            <a:endCxn id="89" idx="1"/>
          </p:cNvCxnSpPr>
          <p:nvPr/>
        </p:nvCxnSpPr>
        <p:spPr>
          <a:xfrm flipV="1">
            <a:off x="7529400" y="463680"/>
            <a:ext cx="959400" cy="69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85" idx="3"/>
            <a:endCxn id="91" idx="0"/>
          </p:cNvCxnSpPr>
          <p:nvPr/>
        </p:nvCxnSpPr>
        <p:spPr>
          <a:xfrm>
            <a:off x="10121760" y="1933560"/>
            <a:ext cx="504720" cy="13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85" idx="2"/>
            <a:endCxn id="92" idx="0"/>
          </p:cNvCxnSpPr>
          <p:nvPr/>
        </p:nvCxnSpPr>
        <p:spPr>
          <a:xfrm>
            <a:off x="9713160" y="2205000"/>
            <a:ext cx="410040" cy="24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87" idx="2"/>
            <a:endCxn id="93" idx="0"/>
          </p:cNvCxnSpPr>
          <p:nvPr/>
        </p:nvCxnSpPr>
        <p:spPr>
          <a:xfrm>
            <a:off x="11850120" y="2390760"/>
            <a:ext cx="36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91" idx="3"/>
            <a:endCxn id="93" idx="1"/>
          </p:cNvCxnSpPr>
          <p:nvPr/>
        </p:nvCxnSpPr>
        <p:spPr>
          <a:xfrm>
            <a:off x="11034720" y="3559320"/>
            <a:ext cx="406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91" idx="2"/>
            <a:endCxn id="94" idx="0"/>
          </p:cNvCxnSpPr>
          <p:nvPr/>
        </p:nvCxnSpPr>
        <p:spPr>
          <a:xfrm>
            <a:off x="10626120" y="3830760"/>
            <a:ext cx="792360" cy="25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91" idx="3"/>
            <a:endCxn id="95" idx="0"/>
          </p:cNvCxnSpPr>
          <p:nvPr/>
        </p:nvCxnSpPr>
        <p:spPr>
          <a:xfrm>
            <a:off x="11034720" y="3559320"/>
            <a:ext cx="96012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92" idx="2"/>
            <a:endCxn id="96" idx="0"/>
          </p:cNvCxnSpPr>
          <p:nvPr/>
        </p:nvCxnSpPr>
        <p:spPr>
          <a:xfrm>
            <a:off x="10122840" y="5199120"/>
            <a:ext cx="360" cy="48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97" idx="2"/>
            <a:endCxn id="98" idx="0"/>
          </p:cNvCxnSpPr>
          <p:nvPr/>
        </p:nvCxnSpPr>
        <p:spPr>
          <a:xfrm>
            <a:off x="11994480" y="5952960"/>
            <a:ext cx="36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96" idx="2"/>
            <a:endCxn id="99" idx="0"/>
          </p:cNvCxnSpPr>
          <p:nvPr/>
        </p:nvCxnSpPr>
        <p:spPr>
          <a:xfrm>
            <a:off x="10122840" y="6224760"/>
            <a:ext cx="360" cy="45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95" idx="2"/>
            <a:endCxn id="97" idx="0"/>
          </p:cNvCxnSpPr>
          <p:nvPr/>
        </p:nvCxnSpPr>
        <p:spPr>
          <a:xfrm>
            <a:off x="11994480" y="5016600"/>
            <a:ext cx="360" cy="39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87" idx="3"/>
            <a:endCxn id="97" idx="3"/>
          </p:cNvCxnSpPr>
          <p:nvPr/>
        </p:nvCxnSpPr>
        <p:spPr>
          <a:xfrm>
            <a:off x="12258720" y="2119320"/>
            <a:ext cx="144720" cy="3562560"/>
          </a:xfrm>
          <a:prstGeom prst="bentConnector3">
            <a:avLst>
              <a:gd name="adj1" fmla="val 2603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274680" y="7534440"/>
            <a:ext cx="461340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= Requires Mythical Technology from the Old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£ = Requires contact with an alie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$ = Requires alliance with scientists from an alie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%= Requires having explored at least fiv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= Requires at least one expansion col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= Only available if ‘technology win’ is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  = Requires at least five hyperspace g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6120" y="141120"/>
            <a:ext cx="45860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OldOnes Technology T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71" idx="2"/>
            <a:endCxn id="75" idx="0"/>
          </p:cNvCxnSpPr>
          <p:nvPr/>
        </p:nvCxnSpPr>
        <p:spPr>
          <a:xfrm flipH="1" rot="16200000">
            <a:off x="6715440" y="1644120"/>
            <a:ext cx="587880" cy="1693440"/>
          </a:xfrm>
          <a:prstGeom prst="bentConnector3">
            <a:avLst>
              <a:gd name="adj1" fmla="val 500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94" idx="2"/>
            <a:endCxn id="98" idx="1"/>
          </p:cNvCxnSpPr>
          <p:nvPr/>
        </p:nvCxnSpPr>
        <p:spPr>
          <a:xfrm flipH="1" rot="16200000">
            <a:off x="10963440" y="7402680"/>
            <a:ext cx="1076760" cy="167760"/>
          </a:xfrm>
          <a:prstGeom prst="bentConnector4">
            <a:avLst>
              <a:gd name="adj1" fmla="val 37424"/>
              <a:gd name="adj2" fmla="val -384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88" idx="3"/>
            <a:endCxn id="94" idx="1"/>
          </p:cNvCxnSpPr>
          <p:nvPr/>
        </p:nvCxnSpPr>
        <p:spPr>
          <a:xfrm flipV="1">
            <a:off x="10530000" y="6676920"/>
            <a:ext cx="479520" cy="134820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55" idx="3"/>
            <a:endCxn id="62" idx="0"/>
          </p:cNvCxnSpPr>
          <p:nvPr/>
        </p:nvCxnSpPr>
        <p:spPr>
          <a:xfrm>
            <a:off x="4556160" y="2757600"/>
            <a:ext cx="189360" cy="73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9426600" y="9229680"/>
            <a:ext cx="32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Colin Frayn,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2:51:29Z</dcterms:created>
  <dc:creator>Colin Frayn</dc:creator>
  <dc:description/>
  <dc:language>en-US</dc:language>
  <cp:lastModifiedBy>Colin Frayn</cp:lastModifiedBy>
  <dcterms:modified xsi:type="dcterms:W3CDTF">2006-11-18T13:31:35Z</dcterms:modified>
  <cp:revision>36</cp:revision>
  <dc:subject/>
  <dc:title>Slide 1</dc:title>
</cp:coreProperties>
</file>